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suction.wav" ContentType="audio/x-wav"/>
  <Override PartName="/ppt/media/image4.jpeg" ContentType="image/jpeg"/>
  <Override PartName="/ppt/media/image2.png" ContentType="image/png"/>
  <Override PartName="/ppt/media/image8.jpeg" ContentType="image/jpeg"/>
  <Override PartName="/ppt/media/image10.jpeg" ContentType="image/jpeg"/>
  <Override PartName="/ppt/media/whoosh.wav" ContentType="audio/x-wav"/>
  <Override PartName="/ppt/media/explode.wav" ContentType="audio/x-wav"/>
  <Override PartName="/ppt/media/image7.jpeg" ContentType="image/jpeg"/>
  <Override PartName="/ppt/media/image6.png" ContentType="image/png"/>
  <Override PartName="/ppt/media/drumroll.wav" ContentType="audio/x-wav"/>
  <Override PartName="/ppt/media/image5.jpeg" ContentType="image/jpeg"/>
  <Override PartName="/ppt/media/laser.wav" ContentType="audio/x-wav"/>
  <Override PartName="/ppt/media/image3.png" ContentType="image/png"/>
  <Override PartName="/ppt/media/image1.png" ContentType="image/png"/>
  <Override PartName="/ppt/media/applause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6.jpeg" ContentType="image/jpeg"/>
  <Override PartName="/ppt/media/wind.wav" ContentType="audio/x-wav"/>
  <Override PartName="/ppt/media/hammer.wav" ContentType="audio/x-wav"/>
  <Override PartName="/ppt/media/cashreg.wav" ContentType="audio/x-wav"/>
  <Override PartName="/ppt/media/image12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3DB-42B0-48A5-A7DC-28305D94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F41-B448-4238-A7DF-4643BEDD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DD5E1-A0B1-4FA3-BED7-FDBDEFAE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8151A-3FF5-438A-B3DF-7C564683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60BB8-BF21-4EA6-B778-124F66C3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B1973-4CA9-4A6C-99A0-CADE7942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644F9-83DB-4572-8CF5-C6EDED63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14036-7781-4687-B4A6-7597CD4D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C4B20-D2B0-44CC-8B3F-8AB1230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4035A-4EB2-408D-8764-A4AD6836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3E73D-B06D-43D6-934B-5C8BFEB1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74C4C-213B-4964-9CEB-1B1626C7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A46-9A97-4238-A90C-7F06B81E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DB723-EE8B-4412-9148-92FF4371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7A0CA-FC0C-464E-ADF8-6B1950E6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5655B-45DC-46BA-9E43-5E6C980B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10E74-35CC-45B1-91EF-01DF99E1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7456A-3CB3-4F69-89FE-316E5136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5DCAC-F30B-4017-9B6D-EE2E2670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E88B6-E997-49DB-AD9C-C45187FE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3164D-A3DA-4C8B-9192-04D4A66A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938C0-DEEC-4B1D-81CC-1E440B43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147EC-37B1-456D-AF7A-56225E3B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9EF-014E-43D6-BA84-22318C15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70268-6657-4ECC-AA13-1556B85A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76964-FE75-4DFD-AEC3-45256793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E95BB-E192-4DB1-B301-FFC89B85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32D14-C370-4F08-9C34-80873DDE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F92FE-5C4C-49BC-A5C8-CE018ABF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81246-A156-466C-8A10-B35675C6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C8C92-8D47-4342-ACFC-0889B3EE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C0AAC-08A2-4104-AA28-4F1BE4F8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4B2CD-5428-40E7-A813-75D4CCC0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C3ECA-0726-4709-9873-86B15D7D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2D7F-D31C-424B-9876-039B5E9A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4B490-A2DF-42A8-8015-BD0AC98C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A4CD2-CF26-4CAE-8A73-776EAC3D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2C5C1-80FB-496C-89F0-C15573E4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D24D6-0955-4191-B587-D498B6B1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82363-D3C0-45AC-A30B-73D064F0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047E9-4AB7-456B-90D3-D4E600F8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FC236-178D-4D19-BE4E-924AAFA4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A0413-B248-4D13-BC3E-D6695D27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AE83A-330D-4102-AF33-A2D83FAD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E0F1D-0B57-4C71-9BE9-BAECBCC1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544F-2939-49BF-9D3F-B1844AB6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ECDA4-8FB4-4F58-AD43-11FEB679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2BA2A-6D8A-4A7E-9B6E-23734597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BB6CC-E46F-46DC-BB00-4251CCCF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D0290-0B44-4AFC-9D0D-BD8BB585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9EF4E-0EE9-45CC-A2DC-42749F65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5B76C-6356-43C7-8EB4-F6D2E8D5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E095A-6D84-4B61-BB61-B3616A2E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C39F5-3DCB-442E-B46B-340D102E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F6229-5097-4AE8-9D16-A0415FD8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D1A1B-AE55-44B0-9259-4D851C33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58D3-D0D1-4704-920F-A74284F4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0A1CD-0EC4-42EA-A272-F336457B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EAB76-BE37-45EA-BF88-2763B00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49F1D-3D0B-434E-A6BA-A1840CBE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D0FDA-98AC-424E-BA24-DCB7C071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77C1B-A6E1-474F-BCD3-6490DD54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96832-416D-42A6-8FB9-F5D3260E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44D38-0E1F-4916-94CB-66BCCE4E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7F893-967F-4827-AF78-ED5A699F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D42E5-A89A-4788-A161-1E1A7767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56004-9BF9-408F-B80E-6DDCF621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B18F-787C-4D0F-9642-AA271A65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04DC9-8D5D-4063-830D-FC39A02E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099C7-141D-4DB2-85DB-8E873771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20942-CE17-4FC3-8B69-E9A59FC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42CE9-04AC-433A-A79F-3DBD0B36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3DBCD-3BE6-4383-BC63-F96B04A2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FBA1D-7700-4569-B9FF-779AEFED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7E3B9-3C00-4D98-85E7-C006AF12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E29CE-665F-43C6-BEE1-C7594F00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0384C-EA83-4B9F-9037-7686177C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282C6-540D-43C7-85FD-58D5F623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C20E-B8FF-437D-974E-25869F48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A179E-FBA8-4B22-BCE1-CDB5C51A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69810-6DE3-42BE-8535-0C7F703A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C50AB-8B32-46B4-81B4-5CFC3C60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8BD86C-30AC-4FE6-8359-585D02D1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8FF13-6127-45BA-BE0E-4B289852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9F332-BE7E-4A91-A4E7-CB73169D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0E2B5-7395-4A68-ACA2-59D6F6F1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35693-696E-4D63-AC0C-8B22D55F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F4712-329A-467F-B5FB-C65CBAED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8D21B3-B110-4A5C-A8FC-88951489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F17B-B6DA-4E14-8B14-1DC5BA54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CA0B7-DCF6-4DD2-9636-786AB84E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5AC1D-1C86-4A32-A3D8-EB134B44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F9F9C-E883-4C29-8023-10734B10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577C1-B1E2-4EFF-A88D-8AE68A00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153CB-DD05-44FF-85D9-EBDADE84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164FF-E8D2-4121-BDDD-06F97B89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67737-F78F-4CC4-8DEE-F89B6E30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4E2E0-A5E2-4A88-83EE-F62F7DFD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C3345D-18A1-4DE8-A5DA-5A7745D9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AB526-B57A-46D0-8B81-B0ACFA4D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8C6C-CCAB-41DE-9506-C971977B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23D497-CA58-4378-A8F7-78B64652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2CDDF-DEBF-4670-AC29-78D23977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E2F92-FB00-4FAD-A8B6-35310D8F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6E103-67A5-4BA3-9F4A-2129E14E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E33DEB-30FE-49C4-AC85-71989D91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77F25-E043-488D-A62E-4E8A903D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EECD15-3CF6-459A-9D8D-BFF2862B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3E3EF1-8DAA-4F4E-B333-FE8EB647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1EB8A2-2F75-4D59-854A-7D60E10F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F2E2B-6CC6-4FFF-BBD9-69302979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894-4BEF-4930-AEF1-9215EE03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BC63-2106-430C-A380-B9E461F5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95901-C11A-422F-ABFB-7B5B1E8E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85B24-A805-4521-B10B-DC6FA18C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1A55D1-3449-427D-9563-6DF498EA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8438D-0BCF-4205-86E2-953F3745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F74D4B-517D-44BC-AE3B-A5960D6E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90DF33-34F0-467F-A4A1-2D5C004B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DA421F-6063-4A98-99F9-05D23F59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E670F4-6B57-4FFD-B1D3-648E646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027F3-8503-44C0-BD4C-6A07BDE2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9CECA-A6AD-482A-9672-5E80492E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8E36-8572-4E4E-9A0A-7241D599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BC565-3499-4426-A4CD-8B461D29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309F2-62D8-4290-83EE-DB006337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9AE8D-CDA8-4709-9CD3-DFB359E1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D2FFFC-B86D-45C4-900B-8DDCBF51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7F046-253B-4551-AD48-36090863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370B22-5121-43B7-B916-9DE12205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D6EF8-F582-4743-BDC1-5D1BBA26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761E7-34C3-41BD-BE50-8209F3E5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824737-A840-494B-AB10-5891B1BD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E7F79-ADE4-42F4-AAE3-C55E2D38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C0FC-8DA5-4A06-A752-CFF98709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3BD2B-E33D-430C-B38D-FD0B38B5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487EC-B7B3-486E-996F-6F3BD137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51B858-AC0F-4DD9-97E5-08F34BB2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E699A-9A46-4A91-B84A-52FDA4C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EFAEE2-2466-40C9-B4AA-3CEC9FC9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67C95-2514-49E8-8AF6-DC447271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5980D8-9167-4AEB-B1C8-7CBAD8F7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B46C7-B37C-48DF-B574-DE767660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BEF11-6DFD-42D4-95A8-9E07F61F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D73E801-3A41-4516-95C6-E70D1852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F66A-C13D-49FE-9433-58508BA7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EC9E2C-E994-48BF-B503-53D7E707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982F8E-8E11-414B-AE8F-81C0F180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FADEC4-6BB3-46EC-A1A4-37CDBA5B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8D88155-7005-4959-A572-DC53631F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A360AC-D370-4762-BDAE-0BD876BC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1BA1C4-F4F8-4E3B-B8DB-66FDE7E0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AF41A30-8CB3-4DBB-B4B0-AB8BFBE4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ECF0393-AEFF-42F2-BEA2-A77EBECD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6E74310-1D52-4EA5-A655-FD55FE86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0300A55-4696-4BFC-9DF6-8C3FD310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F46C-1D53-4102-B759-5A4F7A42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CC043B-18ED-422A-80DA-A2104CB1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E9073D-46E8-45A7-9274-FAD425E2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B3C7A-C31B-4549-B7C6-C4926ECD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D3625-BC7D-4309-B27B-3FDD567F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EDBCD-DF2E-4357-99C3-66C7BBF9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1186FF-A9C1-4647-834F-12F7A110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B41FF7-D86E-4834-8A93-E17DBF0F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CFA942-3C96-48A4-A16E-D5486E04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B460A8-3727-4D28-A501-34600EC1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A790CD-56C0-4573-8553-DC75FD95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7F7A-B3B6-4EE9-8803-88151F41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29AE2C-CE58-45F5-B15D-14280D96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796A9-8664-460B-9E72-70F63570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537DB2-98EB-40D1-8494-143D2357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3E8943-1395-4512-9B1E-F2D38DD1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235D1B-962F-4602-8461-AF324560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343F5B-851B-4538-BD43-0EE03EF6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DD3356-F79B-4BE6-B50E-A4850541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C8BA01-121E-46AF-919D-44CD11CB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DF60DA-938A-481B-9D93-76D1BE4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CECFD8-DE15-4ABF-9144-31D0F278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98AC-805F-4B70-8BBB-80259954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5E9511-B460-4FAB-ACD3-E778B9DC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C7B103-CC2C-4F1F-A2F8-7C25412B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9D79BD-150B-4C05-84C9-B2C04EB0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274E34-AB0C-4D96-991F-7ACF8C0C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020D23-18FB-46D9-8E94-61AA8EF0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8266A3-A922-4A9E-8348-962919BF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EBF997-AF04-4F0B-B048-9BE8CA29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231397-994E-4218-B4B3-F600CA71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2045F4-9F9E-4600-8B3C-7010D59F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FA9294-CCF0-4AC6-90AD-44D9023A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4F32-9742-4726-A958-D570B3A3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59B906-72EE-477E-872B-5F9117D7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CF1F0E-99CD-4B52-B175-D78841FF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761961-0A63-4DA3-9479-FBCC94B9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A862E2-A133-4A1B-8ACA-87ECCA54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C46097-1EE0-43C5-8CD1-3F7C7724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26E93C-1E5D-4C77-98ED-FAF3539D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FD4C0B-2474-42D9-9D04-B304F785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E439-D8B1-46A8-AA05-61560739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C7A3-BA09-4EFC-B086-41D85850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902-7842-4532-A422-9D51CC88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5CB3-2A21-45B1-BE3D-5FF5BE48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4C3F2-B1C9-4BCA-AAF5-B611B646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BCD4-5554-44B9-9D74-2549E199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DD721-F59B-4219-9980-4C20C2B6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D8A6A-442B-4416-B175-24CC1DF5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28F6-C95A-4FB7-868E-C133D413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F268-B49C-479B-8CB0-EB557332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8672-00ED-41F1-940E-A1A150D6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3550-7300-460C-BC13-950107D9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2ED9-7C5D-4AAF-B44C-19067F2F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62C-6A7B-46AA-90B4-45956211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A25D-FA0D-4BE3-B695-26E72E4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4E33-594A-4975-9460-784A5661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AD48-C373-4FDF-81D8-26460A0B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43F03-9D03-4201-AF22-FF2EDD1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87115-8812-4AA1-9ED2-7BDD4118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71F6-869D-4DEA-908D-48A01633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A178-1D96-4AB3-911D-11302C66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2A787-CB82-4733-9033-8F3E49D1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D1040-94E9-4CE5-B848-F060B0D1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C5495-514D-4C3A-B9E2-16E0B14B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2CF-3026-404A-89D0-14DFF37B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C1D6-3BA6-470D-B471-56D2A730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8F88B-C90D-46CD-BA92-5308DDB4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1F0DD-D53E-4156-AF4C-0E409301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8A251-3BF7-403D-A33E-36DAFACC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3912D-BF1A-49B9-B617-5FF82FBD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3687A-8397-4BC7-A057-420616CC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FD9A9-6E28-45E8-9BB2-4F2C7443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14E97-4776-42BA-A16A-FC05335F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DAD8-1574-4AF9-A0F5-3299D040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54552-097E-48B1-BCFD-4A190546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792-D1E0-485B-9C16-74BD817E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087BA-7367-4A3B-BE86-41517E8D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AAC7A-27EB-4430-BFB8-0A565D91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DF538-90EA-4EA7-BDFD-7F25B2FC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4C152-BBE5-4964-BBF7-8A138324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F32C-3C3D-434A-A12C-9C8EC439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71B37-CE77-434F-A0FA-2EF28C10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BDED-BD09-49BC-88AD-BFF949C5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B8046-D6CC-4388-95E6-80C19100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50B85-5759-4063-A253-3AE3E091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FF6AA-D054-47CD-8BF8-EEA72C4F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E65-35EE-4A7E-8463-C1441A1C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9EBEA-B788-419D-8596-0E29E3DE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35F6C-5E54-4846-B932-419D0114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9A99F-B5B4-4E4D-9F42-F4D51D14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C89C8-7FB0-4E6E-AACF-DDF71130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0A14A-CB70-4444-B26D-5316CBC9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BB115-D699-4FCD-BDC8-BF8536BE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9B129-23A8-4F88-9F2C-C1466C08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CB829-3DE9-487D-819F-9BEDA898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A7A2E-CB5F-4ECD-AF63-1B16B925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7756A-01ED-4E89-A4CC-426A214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7CC-7BD4-4F58-BE04-DBE59789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65FEC-AABB-4CD8-8D73-79BA9268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75229-43F8-4947-B498-F6D30E6B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57DAD-5473-4C6F-861E-84902C53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C8101-8193-41EE-8E4B-E9BE75E1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88BC1-AFCF-4992-8DA0-8501C871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2A183-A6FE-46B2-9AC4-0C5A0293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3005F-BE12-40B9-95E3-B64EFB82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561F4-8FA8-49ED-A3BE-396D6607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FFD78-6201-4B1B-8548-B1076BF2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AD618-1CD0-4DFD-82B0-38B4E443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AB8-FF33-4884-92F8-8DD55AD8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C06B1-5F10-46F5-8C70-83FBEB5A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4A439-3B56-496C-895D-547A61E6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F48F8-69F5-4E4B-81BC-6ED457AD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51CB3-E4FD-40F3-9321-949C2EDE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2FC39-ED86-4D1A-AA9D-B6EAC4EA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AB58E-9114-473F-B242-683174E8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0D1E6-8B6C-4D3F-8E52-1E787284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A678E-B972-4670-A50D-C9FBE24E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22C17-8AB8-4F4D-A2C5-8B3ECA5A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FDBD9-9DCC-4AD6-99D0-D5D6CCBA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D064-DCEA-433D-A0D5-ABC661612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05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504B-8AAE-4457-BDE4-FE1CD2A72E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9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0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6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3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9FAF-5052-48E1-B898-7F211D446D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613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PlaceHolder 1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3FA9-D9FF-411D-9BF4-F0E68B98E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dt" idx="3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ftr" idx="3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870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4D11-691D-4E1B-96D9-18CDFD357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2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2923-9039-4C11-BFD2-38FD509D9E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3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A834-2BAD-4A9E-992B-A96D174AE0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3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PlaceHolder 1"/>
          <p:cNvSpPr>
            <a:spLocks noGrp="1"/>
          </p:cNvSpPr>
          <p:nvPr>
            <p:ph type="dt" idx="4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ftr" idx="4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D94D-5B30-4A61-9FE9-0DFF96701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8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dt" idx="4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ftr" idx="5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EABB-436C-4FCD-A910-76CEEA9E7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4A9E-FE70-4A93-B862-9503D2698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18B5-C851-4805-A4D9-13541115D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3091-CEBE-434B-9D7E-4317294F2B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dt" idx="5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022B-25D0-4D32-9A2A-9B2A5EB1E7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 type="ftr" idx="6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6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6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 type="ftr" idx="6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 type="sldNum" idx="6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08C6-A043-456B-8515-1D27B9AE60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1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1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64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6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CBAA-C602-4120-AC47-9656A41F9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2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2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5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7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02FB-2F55-4D6E-A7E5-F62D4A063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8F2D-D1D0-4EE5-B670-6895E4312B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C243-724E-4850-ADF2-13FB4C3A8B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A1A1-362D-41EC-9842-53AC9E9554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3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3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845C-C0EA-439A-801B-C5EB1F885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8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A339-28C5-419C-9224-725D181D82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EEDB-ED72-4890-8C05-BE6B13CEE2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0FF8-3E62-463C-B3F4-0BC9870C56E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3" name="il_f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1960"/>
          </a:xfrm>
          <a:prstGeom prst="rect">
            <a:avLst/>
          </a:prstGeom>
          <a:ln w="0">
            <a:noFill/>
          </a:ln>
        </p:spPr>
      </p:pic>
      <p:sp>
        <p:nvSpPr>
          <p:cNvPr id="1824" name=""/>
          <p:cNvSpPr txBox="1"/>
          <p:nvPr/>
        </p:nvSpPr>
        <p:spPr>
          <a:xfrm>
            <a:off x="755640" y="115920"/>
            <a:ext cx="7632720" cy="14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howcard Gothic"/>
              </a:rPr>
              <a:t>the solar system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ff00"/>
                </a:solidFill>
                <a:latin typeface="Garamond"/>
              </a:rPr>
              <a:t>Uran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2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Garamond"/>
              </a:rPr>
              <a:t>Uranus is a huge spinning ball of gas covered with clou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Garamond"/>
              </a:rPr>
              <a:t>The wind speeds on Uranus can reach 250 metres per second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3" name="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33717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Arial"/>
              </a:rPr>
              <a:t>Neptune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3840"/>
          </a:xfrm>
          <a:prstGeom prst="rect">
            <a:avLst/>
          </a:prstGeom>
          <a:ln w="0">
            <a:noFill/>
          </a:ln>
        </p:spPr>
      </p:pic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Neptune is the stormiest planet with winds up to 2,400 km/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It was Discovered on September 23 184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7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286160" cy="4276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"/>
              </a:rPr>
              <a:t>Light speed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4039920" cy="2171520"/>
          </a:xfrm>
          <a:prstGeom prst="rect">
            <a:avLst/>
          </a:prstGeom>
          <a:ln w="0">
            <a:noFill/>
          </a:ln>
        </p:spPr>
      </p:pic>
      <p:pic>
        <p:nvPicPr>
          <p:cNvPr id="1860" name="" descr=""/>
          <p:cNvPicPr/>
          <p:nvPr/>
        </p:nvPicPr>
        <p:blipFill>
          <a:blip r:embed="rId2"/>
          <a:stretch/>
        </p:blipFill>
        <p:spPr>
          <a:xfrm>
            <a:off x="455760" y="3924360"/>
            <a:ext cx="4039920" cy="2171520"/>
          </a:xfrm>
          <a:prstGeom prst="rect">
            <a:avLst/>
          </a:prstGeom>
          <a:ln w="0">
            <a:noFill/>
          </a:ln>
        </p:spPr>
      </p:pic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641480" y="1598760"/>
            <a:ext cx="40402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"/>
              </a:rPr>
              <a:t>Asteroids are large rocks left over from the formation of the solar system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"/>
              </a:rPr>
              <a:t>Comets are made of dust and ice, as the comet travels bits fly off it   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62" name="" descr=""/>
          <p:cNvPicPr/>
          <p:nvPr/>
        </p:nvPicPr>
        <p:blipFill>
          <a:blip r:embed="rId3"/>
          <a:stretch/>
        </p:blipFill>
        <p:spPr>
          <a:xfrm>
            <a:off x="755640" y="1628640"/>
            <a:ext cx="3405240" cy="2162160"/>
          </a:xfrm>
          <a:prstGeom prst="rect">
            <a:avLst/>
          </a:prstGeom>
          <a:ln w="0">
            <a:noFill/>
          </a:ln>
        </p:spPr>
      </p:pic>
      <p:pic>
        <p:nvPicPr>
          <p:cNvPr id="1863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417672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  <p:sndAc>
      <p:stSnd>
        <p:snd r:embed="rId5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Arial"/>
              </a:rPr>
              <a:t>Thank you for listening</a:t>
            </a:r>
            <a:r>
              <a:rPr b="0" lang="en-NZ" sz="4400" spc="-1" strike="noStrike">
                <a:solidFill>
                  <a:srgbClr val="007d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7200" spc="-1" strike="noStrike">
                <a:solidFill>
                  <a:srgbClr val="00ff00"/>
                </a:solidFill>
                <a:latin typeface="Showcard Gothic"/>
              </a:rPr>
              <a:t>the sun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Lucida Handwriting"/>
              </a:rPr>
              <a:t>The sun  is the star at the centre of the solar syste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Lucida Handwriting"/>
              </a:rPr>
              <a:t>The sun fuses 620 million metric tons of hydrogen each second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7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24980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Forte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3348000" y="1828800"/>
            <a:ext cx="531504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ff00"/>
                </a:solidFill>
                <a:latin typeface="Lucida Handwriting"/>
              </a:rPr>
              <a:t>The moon is earths only natural satellite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ff00"/>
                </a:solidFill>
                <a:latin typeface="Lucida Handwriting"/>
              </a:rPr>
              <a:t>After the  Apollo 17 mission in 1972 the moon has been visited  only by unmanned spacecraf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38472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Bookman Old Style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Castellar"/>
              </a:rPr>
              <a:t>Mercury is the closest planet to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Castellar"/>
              </a:rPr>
              <a:t>It has virtually no atmosp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3" name="" descr=""/>
          <p:cNvPicPr/>
          <p:nvPr/>
        </p:nvPicPr>
        <p:blipFill>
          <a:blip r:embed="rId1"/>
          <a:stretch/>
        </p:blipFill>
        <p:spPr>
          <a:xfrm>
            <a:off x="4648320" y="1844640"/>
            <a:ext cx="4038480" cy="4037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364000" y="1981080"/>
            <a:ext cx="345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Berlin Sans FB"/>
              </a:rPr>
              <a:t>Venus is the hottest planet because it’s cloud’s trap the sun’s hea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Berlin Sans FB"/>
              </a:rPr>
              <a:t>The planet is named after Venus the roman goddess of love and beau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7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53708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"/>
              </a:rPr>
              <a:t>Earth is mostly covered by water and is the only planet known to support lif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"/>
              </a:rPr>
              <a:t>Earth orbit’s the sun once every 366.26 times it rotates about it’s own axis witch is equal to 365.26 solar day’s or one yea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0" name="" descr=""/>
          <p:cNvPicPr/>
          <p:nvPr/>
        </p:nvPicPr>
        <p:blipFill>
          <a:blip r:embed="rId1"/>
          <a:stretch/>
        </p:blipFill>
        <p:spPr>
          <a:xfrm>
            <a:off x="4652640" y="1600200"/>
            <a:ext cx="4033800" cy="4495680"/>
          </a:xfrm>
          <a:prstGeom prst="rect">
            <a:avLst/>
          </a:prstGeom>
          <a:ln w="0">
            <a:noFill/>
          </a:ln>
        </p:spPr>
      </p:pic>
      <p:pic>
        <p:nvPicPr>
          <p:cNvPr id="1841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2386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3" name="hammer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Tahoma"/>
              </a:rPr>
              <a:t>ma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Tahoma"/>
              </a:rPr>
              <a:t>Mars has a thin atmosphere of poisonous 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Tahoma"/>
              </a:rPr>
              <a:t>The planet is named after roman god of war mars is often described as the red pla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4" name="" descr=""/>
          <p:cNvPicPr/>
          <p:nvPr/>
        </p:nvPicPr>
        <p:blipFill>
          <a:blip r:embed="rId2"/>
          <a:stretch/>
        </p:blipFill>
        <p:spPr>
          <a:xfrm>
            <a:off x="590400" y="2395440"/>
            <a:ext cx="37720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ff00"/>
                </a:solidFill>
                <a:latin typeface="Arial Black"/>
              </a:rPr>
              <a:t>Jupit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Jupiter is the largest planet and has 16 major mo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The roman’s named the planet after the roman god Jupite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7" name="" descr=""/>
          <p:cNvPicPr/>
          <p:nvPr/>
        </p:nvPicPr>
        <p:blipFill>
          <a:blip r:embed="rId1"/>
          <a:stretch/>
        </p:blipFill>
        <p:spPr>
          <a:xfrm>
            <a:off x="4572000" y="2058840"/>
            <a:ext cx="4245120" cy="3459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ffff"/>
                </a:solidFill>
                <a:latin typeface="Tahoma"/>
              </a:rPr>
              <a:t>Satur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0" y="206064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Tahoma"/>
              </a:rPr>
              <a:t>Saturn is the second largest planet and has rings made of ice and rock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Tahoma"/>
              </a:rPr>
              <a:t>Saturn has nine ring’s ,Saturn has an average radius about 9 time’s larger than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1339920" y="3117960"/>
            <a:ext cx="3109680" cy="2498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07:55:10Z</dcterms:created>
  <dc:creator>Adiel</dc:creator>
  <dc:description/>
  <dc:language>en-US</dc:language>
  <cp:lastModifiedBy>Adiel</cp:lastModifiedBy>
  <dcterms:modified xsi:type="dcterms:W3CDTF">2011-07-07T07:41:17Z</dcterms:modified>
  <cp:revision>5</cp:revision>
  <dc:subject/>
  <dc:title>Slide 1</dc:title>
</cp:coreProperties>
</file>